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EBAB-6787-49D5-B1DC-60F5C0AC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0311-39CE-4BD6-995A-480ED4C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8631D-B206-4496-91D1-8342A47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386FB-3D5A-43CD-B315-8DEEC76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CC59-1D9F-4B03-A5A5-0E0F701D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C8EEE-E3CA-4A74-A00C-8FC9433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39C7-0F88-44A7-91AC-1C51991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C11EB-94F3-4B9D-B7B7-38A7D7C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63B4-9D9E-443D-8238-DADFF24A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D2EAD-289A-4CF8-9AA0-E60903D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5F2E4-0BD0-475B-ACE7-B0F97F90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D989C-E7F1-4203-9A74-2C844E4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BE24-CF95-46AF-A4BB-C354D4C3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D59D-7D93-4FA0-BBA0-D8BD318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45BCB-CBA4-4819-A231-AC1855F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A07B8-69E4-4C46-9468-D16F9E4C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3232C-FB6E-4381-9D29-EEA3601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6BB1-0B14-416C-8225-1A4E2B5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E03B0-6ED2-41F7-A8C5-1699D97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5A45D-1868-4F8E-835E-851411D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7DD9B-3E4D-4304-96D9-E58AB10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605B3-4567-496B-AC72-3105DFB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0D2B8-20C2-422B-9F52-5958099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1050-0970-45B9-8C2C-2B983281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0280E-6ECC-442B-B7BC-CBC47B6F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A7028-C387-416A-8F18-840362C6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86DF6-DE0D-4309-97B1-7E4C6E9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13FA7-7C87-41BB-BCD7-3B64358C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F7259-2025-41CD-A2AD-E8400FE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CDBF1-E90A-455C-874F-42C4DF0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F0816-CDB4-4DD0-986D-712093E0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CCD9-103B-439B-8B3D-800F4A2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4A591-BAF8-46DB-92AF-7BC0087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F1FA2-B3E5-47AD-B876-B509419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7C04-5C27-4512-93BF-9CC1EC99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FF98-C2ED-43EC-A64F-D9BE1FD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A73C9-59FC-40ED-A026-19943585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DC47C-234C-49F3-8C31-4FDA75F3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11C12-0FC4-4E3D-8709-9C403A75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147A-0D23-4999-9C6C-37BC4EB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EDCE0-EF1E-42A3-9233-41158B53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DC167-A640-4DC2-9600-4738F1F9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A82E0-32CB-4A50-BA04-A88CDEF0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51773-DBF2-4B05-8067-34943F3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40C0C-B433-4D4F-B411-743507E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887-29EC-428A-B231-DCF34ED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B5690-20C6-46E1-A5C2-9E68C22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E9559-A00F-475A-B49F-F7867BC0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8D206-AA69-45A1-B347-88E6AC2C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77B64-3D67-4BDC-B75C-CEAAECB0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F0F6B-7171-4416-8380-71463DDE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C7F-A33D-45EB-9E5E-A2CB250C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8459-130A-4C58-8BD8-68EC292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C201-B461-48E3-93EA-E942DFF7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C7CC-D040-412F-8EFB-2C6382B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3B07-D70C-424F-A7B5-C87E130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59DD-0ECD-4CB8-9725-15762FD0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627-D72E-4412-B81D-74C5F60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9E1-D664-422A-98AB-7B74FAA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EC2D-FB96-4B28-9E9A-0DF219F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50CA-589E-47DF-8E39-7D0C7C4B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3AF-530F-46F0-BB0F-0B389E8D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5DD0-9537-4E72-8BD3-B8EF1C71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C1C0-0256-44F9-9197-A8B01DC6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EF9F-9C72-4CC7-9E26-96417333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26AD-9F80-4F5D-BB98-77EDDEEF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47AE-1CCC-4917-B6E7-CEE92803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9C54-625D-40A2-9018-4914D0A3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73CA-483E-43CC-8628-FE7EBD0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7608-E8CE-463B-871F-4CDAF23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FE5D-74E7-4B54-9D4D-23B4FC7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4FE5-DFBB-431E-A28C-8AB7EEC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27B3-B8BA-401A-B53F-11F6BE65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DED7-DBD6-49D8-976C-6F574476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7BAE-8C64-4BCE-BF81-792FFB95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0F4B-AE91-4497-BBAB-8A0A55C0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8378-07C5-4CC2-AF18-5DD9D47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D317-D04C-4515-B755-ED94FE0A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C921-C615-43C6-8782-BCFF16AC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47AB-17D2-4130-8C66-9AE43525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2D28-4DF9-4643-9926-07C70BE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F4CD-A963-4160-949B-CD21E621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3427-B56B-4E25-BA89-358C37D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2503-609F-4B3C-95F3-06B063D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135F-F9AB-4DF0-8CEC-F954585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74A1-3691-4935-86D7-3FF30128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C2B0-C09D-449B-968C-5F9C11E4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85A5-AD3B-4C60-A90F-DCB42D80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1EEE-3679-46DF-B73E-1BD307B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8474-DB7E-484D-943E-8662513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881D-4F0E-4B47-848F-F66C654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411D7-DC2B-4C11-9B63-C774D909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68714-2D61-4673-BA71-97D58EA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E445-37B3-42AC-922C-1513B81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41CC-D6FE-4C2B-8FB8-1FF92FB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13EB-FCF4-40B1-B09F-B042360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8D7B-974E-456C-8B39-CAFEBD0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66BB-6A08-4477-A755-60E70A45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BF29-A8F3-4059-8CDC-574F882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6149-B632-410D-80B9-F3AB3174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F51D-129D-4C31-BFD7-5172C56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C5D6-C771-469B-AF19-88025B19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DC6F9-55ED-49C6-8E4D-A6A0CB9B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34C8-8E30-479E-9417-D8981CAA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BB47-B54E-4F31-A3B6-A02CF2B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1A027-89EB-4F35-A728-53D56734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201E-028B-42BA-9479-F91A435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2B87-EFD3-402E-B0BF-E7599CE9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1066-300E-4FBA-B644-B110633B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C211-28AD-43C5-AA82-958F3B6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11C8-961B-4AC6-9558-2DE476F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2D87-3941-43FB-A677-55DA11F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868A-732B-4A01-883C-B4503D3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02D2-378D-4001-ACCC-6D281749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E13B-EEBB-45AA-AF75-5B2411B1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A446-4C0D-4974-805F-33D8E5A8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F135C-3DDF-4F37-8E62-1CB4350D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4434F-1164-47BB-8010-F82026B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66BB-6FF5-4927-A37E-04D25B4B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4C9D-53A6-428B-AA9D-D675ADE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30B2-00ED-43B9-BA98-28043699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34E73-4337-4568-8CFF-2860186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E080-BACD-4C4A-B62D-348CADEA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BBD7-B1BA-491E-939A-361D73A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056B-BE51-46B7-A597-8F6F896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BEEE-441D-42D8-853A-33AE769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717B-C956-477D-B510-EC95CADE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DF21-E8F7-41B8-AE2F-B46477E8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D6E56-DF83-4172-9684-430631A0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991B2-E6C2-4D67-9FC7-48976992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EEBA-941E-4712-9534-46C0C3B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AE83-A0B7-4BDA-A4F5-1711CAA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0469-D2EC-47AF-82F6-979BDC70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E133-7EB1-4678-9E9C-3C3F37A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267D-344B-446F-A7B0-3405C9B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EDD0E-7D97-458F-BA26-A723103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A7FBF-5F44-43ED-98B0-8A85A32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41CB0-7BB8-4CD9-A1B4-47985D15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4765-3294-488D-A070-E6AF6465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CE709-37D9-4BFA-8610-47528B18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2CCB-B51B-48A9-9005-51DB434D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546A-E29B-40DD-8413-109A0A96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436C5-BB7E-4228-A4AC-E899AB5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3A68-FA81-4D8C-8396-3D56A90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F6F-03AE-4B3E-B3EF-DE66C2C03B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0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90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0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90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0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0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90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90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0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1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1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1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1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1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2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2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2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2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3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3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3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4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4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4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5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5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5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6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6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6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6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7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sp>
                <p:nvSpPr>
                  <p:cNvPr id="97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97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grpSp>
                <p:nvGrpSpPr>
                  <p:cNvPr id="97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7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7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7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7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8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8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8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8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9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9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9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99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99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9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100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0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  <p:grpSp>
                <p:nvGrpSpPr>
                  <p:cNvPr id="100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0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  <p:sp>
                  <p:nvSpPr>
                    <p:cNvPr id="100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Impact"/>
                      </a:endParaRPr>
                    </a:p>
                  </p:txBody>
                </p:sp>
              </p:grpSp>
            </p:grpSp>
          </p:grpSp>
          <p:grpSp>
            <p:nvGrpSpPr>
              <p:cNvPr id="100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0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0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101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sp>
              <p:nvSpPr>
                <p:cNvPr id="101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</p:grpSp>
        </p:grpSp>
        <p:grpSp>
          <p:nvGrpSpPr>
            <p:cNvPr id="101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01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1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5C7A-4664-40CE-B103-2A4B4E0950A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07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9A1-90C5-447C-8F2C-5F1703D2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2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3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4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115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grpSp>
          <p:nvGrpSpPr>
            <p:cNvPr id="11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5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531D-BBFD-4AAF-A3FC-BDCCA8889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7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9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0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5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6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7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8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19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0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1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2DF2-EE31-4929-B746-E7BBAD8F96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5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5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5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6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6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6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26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26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6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6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sp>
              <p:nvSpPr>
                <p:cNvPr id="26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6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7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7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8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8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8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8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8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29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29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0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0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0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1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1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1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1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1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2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2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3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3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sp>
              <p:nvSpPr>
                <p:cNvPr id="33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sp>
              <p:nvSpPr>
                <p:cNvPr id="33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Impact"/>
                  </a:endParaRPr>
                </a:p>
              </p:txBody>
            </p:sp>
            <p:grpSp>
              <p:nvGrpSpPr>
                <p:cNvPr id="33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3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3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3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3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4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4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5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5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5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6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  <p:grpSp>
              <p:nvGrpSpPr>
                <p:cNvPr id="36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  <p:sp>
                <p:nvSpPr>
                  <p:cNvPr id="36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ff"/>
                      </a:solidFill>
                      <a:latin typeface="Impact"/>
                    </a:endParaRPr>
                  </a:p>
                </p:txBody>
              </p:sp>
            </p:grpSp>
          </p:grpSp>
          <p:sp>
            <p:nvSpPr>
              <p:cNvPr id="36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6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4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5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6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7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1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38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98A-70B4-4E89-B114-D27119A927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F14-5C03-44EC-BBFB-C542D7AF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7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48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625-81C3-46BE-81E2-B5512510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2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3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grpSp>
          <p:nvGrpSpPr>
            <p:cNvPr id="5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6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5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31A-7B3C-46E3-8FBF-4E589AA62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513C-4CD5-43CE-9F89-9D792A61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  <p:sp>
          <p:nvSpPr>
            <p:cNvPr id="66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Impact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013-0033-4C18-A859-FBD2C15786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1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  <p:grpSp>
          <p:nvGrpSpPr>
            <p:cNvPr id="72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2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3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4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5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6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7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8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79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0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1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2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3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4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  <p:sp>
            <p:nvSpPr>
              <p:cNvPr id="85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Impact"/>
                </a:endParaRPr>
              </a:p>
            </p:txBody>
          </p: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91C-4C1B-4A88-9C80-967433C6FE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e812"/>
                </a:solidFill>
                <a:latin typeface="Bradley Hand ITC"/>
              </a:rPr>
              <a:t>English Language Ar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br>
              <a:rPr sz="7200"/>
            </a:b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As teachers, we must remember that voice emerges when the writer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peaks directly to the reader on an emotional le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periments with style to match the purpose and audien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kes risks by revealing the person behind the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br>
              <a:rPr sz="7200"/>
            </a:b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Some ways to teach the Voice trait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hare different artists’ recordings of the same s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lustrate the voice tra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pare and contrast (same story, different author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Voices, New Choices (5 letter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Impact"/>
              </a:rPr>
              <a:t>Word choice isn’t just about the use—or misuse—of words. It is about the use of rich, colorful, precise language that both communicates and inspires the rea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Impact"/>
              </a:rPr>
              <a:t>Students struggle with word choice because too often, language is used to exclude, vocabulary is often taught in isolation, and students tend to get “word drunk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br>
              <a:rPr sz="7200"/>
            </a:br>
            <a:r>
              <a:rPr b="0" i="1" lang="en-US" sz="3600" spc="-1" strike="noStrike">
                <a:solidFill>
                  <a:srgbClr val="ffcc00"/>
                </a:solidFill>
                <a:latin typeface="Impact"/>
              </a:rPr>
              <a:t>As teachers, we must teach our students how to use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iking language: Sharpen students descriptive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act language: Using lively verbs, precise nouns, and accurate mod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atural language: Making it sound authen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autiful language: Choosing colorful 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Impact"/>
              </a:rPr>
              <a:t>Trait #4: Word Choice</a:t>
            </a:r>
            <a:br>
              <a:rPr sz="7200"/>
            </a:br>
            <a:r>
              <a:rPr b="0" i="1" lang="en-US" sz="3600" spc="-1" strike="noStrike">
                <a:solidFill>
                  <a:srgbClr val="ffcc00"/>
                </a:solidFill>
                <a:latin typeface="Impact"/>
              </a:rPr>
              <a:t>Some ways to teach the Choice trait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1680" y="23623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ainting a picture with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op Ten List of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Finding key words and phrases in captivating tex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 5: Sentence Fluency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trong sentence fluency is marked by logic, creative phrasing, parallel construction, alliteration, and word order that makes reading feel na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tudents struggle with sentence fluency because of the overemphasis on correctness, because writing classrooms are too quiet, and because writing good sentences is harder than it l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5: Sentence Fluency</a:t>
            </a:r>
            <a:br>
              <a:rPr sz="6000"/>
            </a:br>
            <a:r>
              <a:rPr b="0" i="1" lang="en-US" sz="3600" spc="-1" strike="noStrike">
                <a:solidFill>
                  <a:srgbClr val="bff6f7"/>
                </a:solidFill>
                <a:latin typeface="Impact"/>
              </a:rPr>
              <a:t>As teachers, we must help our students with…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Establishing flow, rhythm, and ca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Varying sentence length and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Constructing sentences that enhance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ff6f7"/>
                </a:solidFill>
                <a:latin typeface="Impact"/>
              </a:rPr>
              <a:t>Trait #5: Sentence Fluency</a:t>
            </a:r>
            <a:br>
              <a:rPr sz="6000"/>
            </a:br>
            <a:r>
              <a:rPr b="0" i="1" lang="en-US" sz="3600" spc="-1" strike="noStrike">
                <a:solidFill>
                  <a:srgbClr val="bff6f7"/>
                </a:solidFill>
                <a:latin typeface="Impact"/>
              </a:rPr>
              <a:t>Some ways to teach the Sentence Fluency trait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Reading aloud to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Sentence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End with a 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 “</a:t>
            </a: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A rolling stone gathers no mo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Picture your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 “</a:t>
            </a:r>
            <a:r>
              <a:rPr b="0" lang="en-US" sz="3200" spc="-1" strike="noStrike">
                <a:solidFill>
                  <a:srgbClr val="ffffb7"/>
                </a:solidFill>
                <a:latin typeface="Impact"/>
              </a:rPr>
              <a:t>This sentence is sh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ventions guide the reader through the text, making ideas readable and understand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ventions = spelling, punctuation, grammar, capitalization, paragraphing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truggle with conventions because they don’t see the power of good writing mechanics, and because they aren’t encouraged to take enough risks with their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br>
              <a:rPr sz="6000"/>
            </a:br>
            <a:r>
              <a:rPr b="0" i="1" lang="en-US" sz="3600" spc="-1" strike="noStrike">
                <a:solidFill>
                  <a:srgbClr val="66ff33"/>
                </a:solidFill>
                <a:latin typeface="Impact"/>
              </a:rPr>
              <a:t>As teachers we shoul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 sure students understand that editing and revising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pect correctness, but only according to appropriate developmental level and 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lue experimentation right along with correctness. It’s a balancing 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 patient. Learning to use conventions well take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 6+1 Trait Writing Mod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1523880" y="25142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Wor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Sentence Fl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ookman Old Style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From </a:t>
            </a: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Bookman Old Style"/>
              </a:rPr>
              <a:t>6+1 Traits of Writing</a:t>
            </a: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man Old Style"/>
              </a:rPr>
              <a:t>By, Ruth Culh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33"/>
                </a:solidFill>
                <a:latin typeface="Impact"/>
              </a:rPr>
              <a:t>Trait #6: Conventions</a:t>
            </a:r>
            <a:br>
              <a:rPr sz="7200"/>
            </a:br>
            <a:r>
              <a:rPr b="0" lang="en-US" sz="3600" spc="-1" strike="noStrike">
                <a:solidFill>
                  <a:srgbClr val="66ff33"/>
                </a:solidFill>
                <a:latin typeface="Impact"/>
              </a:rPr>
              <a:t>Some ways to teach the Conventions trai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Take it ou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Error Hu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Conventions Exper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Reading Backw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Impact"/>
              </a:rPr>
              <a:t>Practice Makes Perf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Presentation (+1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How the writing looks to the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Writing should have a finished look that show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Presentation (+1)</a:t>
            </a:r>
            <a:br>
              <a:rPr sz="8000"/>
            </a:br>
            <a:r>
              <a:rPr b="0" i="1" lang="en-US" sz="3600" spc="-1" strike="noStrike">
                <a:solidFill>
                  <a:srgbClr val="000000"/>
                </a:solidFill>
                <a:latin typeface="Impact"/>
              </a:rPr>
              <a:t>As teachers, we need to encourage the following in our students’ wri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Uniform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Legible handwriting; appropriate use of fonts and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Impact"/>
              </a:rPr>
              <a:t>Appealing use of whi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ee812"/>
                </a:solidFill>
                <a:latin typeface="Arial"/>
              </a:rPr>
              <a:t>6 + 1 Traits of Writing</a:t>
            </a:r>
            <a:br>
              <a:rPr sz="5400"/>
            </a:br>
            <a:r>
              <a:rPr b="1" i="1" lang="en-US" sz="5400" spc="-1" strike="noStrike">
                <a:solidFill>
                  <a:srgbClr val="dee812"/>
                </a:solidFill>
                <a:latin typeface="Arial"/>
              </a:rPr>
              <a:t>The Complete Gu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y, Ruth Culh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endParaRPr b="0" lang="en-US" sz="8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imply stated, ideas make up the content of the writing pie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rong ideas = Clear overall message/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udents struggle with ideas because writing is complex, they think faster than they can write, and they often don’t write for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br>
              <a:rPr sz="7600"/>
            </a:br>
            <a:r>
              <a:rPr b="0" i="1" lang="en-US" sz="3600" spc="-1" strike="noStrike">
                <a:solidFill>
                  <a:srgbClr val="ebf25a"/>
                </a:solidFill>
                <a:latin typeface="Impact"/>
              </a:rPr>
              <a:t>As teachers, we must help our students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elect an idea (the top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Narrow the idea (focu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Elaborate on the idea (development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Discover the best information to convey the main idea (details)</a:t>
            </a: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ee812"/>
                </a:solidFill>
                <a:latin typeface="Impact"/>
              </a:rPr>
              <a:t>Trait #1: Ideas</a:t>
            </a:r>
            <a:br>
              <a:rPr sz="7000"/>
            </a:br>
            <a:r>
              <a:rPr b="0" i="1" lang="en-US" sz="3600" spc="-1" strike="noStrike">
                <a:solidFill>
                  <a:srgbClr val="ffffcc"/>
                </a:solidFill>
                <a:latin typeface="Impact"/>
              </a:rPr>
              <a:t>Some ways to teach the Ideas trait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ree 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lashbac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Favorite pla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Picture Thi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tring Along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: Organiz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Organization is the internal structure of the piece, the thread of central meaning, the pattern of log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Students struggle with organization because rigid organization is often overvalued, organization is a difficult thing to achieve, and there is no single program to solve all of our organizational w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: Organization</a:t>
            </a:r>
            <a:br>
              <a:rPr sz="7200"/>
            </a:br>
            <a:r>
              <a:rPr b="0" i="1" lang="en-US" sz="3400" spc="-1" strike="noStrike">
                <a:solidFill>
                  <a:srgbClr val="ff0000"/>
                </a:solidFill>
                <a:latin typeface="Impact"/>
              </a:rPr>
              <a:t>As teachers, we must help our students with…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Writing an introduction—a lead that hooks the reader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Developing the middle of the paper—a core that is logically organized and contains clearly linked details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Impact"/>
              </a:rPr>
              <a:t>Writing the conclusion—an ending that leaves the reader satisfied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Impact"/>
              </a:rPr>
              <a:t>Trait #2 Organization</a:t>
            </a:r>
            <a:br>
              <a:rPr sz="7200"/>
            </a:br>
            <a:r>
              <a:rPr b="0" i="1" lang="en-US" sz="3600" spc="-1" strike="noStrike">
                <a:solidFill>
                  <a:srgbClr val="ff0000"/>
                </a:solidFill>
                <a:latin typeface="Impact"/>
              </a:rPr>
              <a:t>Some ways to teach the Organization trait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Share examples from litera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Teach organizational optio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sp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ti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cont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Organize by perspec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Trait #3: Voice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oice is the writer’s music coming out through words, the sense that a real person is speaking to you and cares about the messa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udents struggle with voice because it’s not as concrete as other traits, because there is a perception that “boring” is good, because it’s a bit too personal, and because many teachers still say that some forms of writing don’t require vo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8:32:20Z</dcterms:created>
  <dc:creator>Kristen M. Howe</dc:creator>
  <dc:description/>
  <dc:language>en-US</dc:language>
  <cp:lastModifiedBy>Valued Acer Customer</cp:lastModifiedBy>
  <dcterms:modified xsi:type="dcterms:W3CDTF">2011-06-07T15:48:39Z</dcterms:modified>
  <cp:revision>27</cp:revision>
  <dc:subject/>
  <dc:title>The 6 + 1 Trait Writing Model </dc:title>
</cp:coreProperties>
</file>